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151-C132-4DCC-8AB5-B9DB91DE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6C0-0C79-4D83-B040-6BDF3F7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93E-A055-42C3-B090-5B2B5133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D6B-D334-4DC3-B6EE-AF261482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106A-B09D-4308-9959-13622733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AD5-AD11-4D69-9249-E7C99C7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74CD-3303-4D2B-800C-D8ED881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5701-003E-42A0-8A41-80B73C4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F3C4-C664-44E2-B27E-D0F26705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2E4-3DE1-4849-82DB-DE11181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827-5E43-4271-B316-5FC4CC91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277-EC6F-4834-842A-35AC95D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EA68-E9D7-45C3-B54E-2BD1F07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A0A-EF45-4B71-98AD-CF327C3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65A-9567-4145-A995-6DD8CDE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63B-60D7-487F-9FD6-475873B2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FCCF-8E9C-41D3-8F2C-6C10EDF6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262-1BD8-4157-9C8F-2F12E8E6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1B6-2486-4090-A9B7-8486733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C77-A2B4-45D2-A52C-34DCBC76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A6C-308D-492B-A95F-81D45220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697-8BB3-4281-A564-7594266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C71-7853-426A-B0F1-B2E31F2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FEC-6E4E-4FF1-B388-000DA805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038-8E04-4E78-A530-34EE79F71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B9C-F833-4CE3-87AA-9478B6A71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ers/iteach/Desktop/339%20roll%20out%20times%20and%20locations.doc" TargetMode="External"/><Relationship Id="rId3" Type="http://schemas.openxmlformats.org/officeDocument/2006/relationships/hyperlink" Target="file:///Users/iteach/Desktop/survey%20of%20PD%20topics.doc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top Rollout May 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Excitement Builds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I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skills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ement/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for 6th graders to get lap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our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ingual kids - all kids - are being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eachers more orga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 lesson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video/ instant visuals - Googl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s for lessons/ research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6629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 off task - on alternate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f th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t them home saf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at different levels with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at different levels with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ing with a cart / logistics of teaching in other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laptops char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 to download new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-wide procedures/ systems/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echnology fails mid-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ing / filtering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f communication stay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expectations as teac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do we go to for help? When do we go to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ill trainings be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timel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Schedule of events 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” classes with home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&amp; creating a manual for teachers - Satu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around those binders - after school, 4 days next week: Teacher Readiness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Other training possibilit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iL trai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ions Concerns to be address at tomorrow’s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on’t forget time she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3:35:50Z</dcterms:created>
  <dc:creator>NYCDOE</dc:creator>
  <dc:description/>
  <dc:language>en-US</dc:language>
  <cp:lastModifiedBy>OIT</cp:lastModifiedBy>
  <dcterms:modified xsi:type="dcterms:W3CDTF">2006-05-10T14:14:28Z</dcterms:modified>
  <cp:revision>8</cp:revision>
  <dc:subject/>
  <dc:title>Laptop Rollout May 2006</dc:title>
</cp:coreProperties>
</file>